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  <p:custShowLst>
    <p:custShow name="Pokaz 1" id="0">
      <p:sldLst>
        <p:sld r:id="rId1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9E5-C2B8-49DC-AAC7-12F94E63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796E-0612-4FC7-97F6-B6FF5941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53EF-488E-4664-BF69-756974C5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514A-C6C9-4E99-9BCC-59BCC03B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B814-3B6A-44E2-87EF-5260581E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2A96-93FF-466E-82C6-D86EE70F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0D8A-2768-4CB1-B472-9D57D7BF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5002-61D1-41C2-8EFF-5469E881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56FA-2D86-4D84-82A3-61939BEC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9121-330C-4437-92EA-5D068382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F76B-6A63-4FF2-BA17-98DE207F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BAF2-7622-4CC5-BC5C-F1019160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CF16-DD12-41F4-B8E9-F9E868E0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0E95-A211-4848-AAA5-F91682FC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D475-B767-4129-864C-655AC47B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1A93-72A7-4F63-8659-90181168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9E8B-AE09-4209-A422-94836BBE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A30D-3270-409C-A61C-6C87D739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8F05-8FC9-48A4-BAE8-EFCC31E2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6246-5520-4559-BFF7-3AA2C124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699C-9F0E-4099-A169-182119B7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3ECF-0BBC-4809-91B0-C21CC297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328-8ACD-4927-AF5A-DD49878C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6B5-D041-4B93-B065-B1B7598F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AC98-DD46-49BB-897C-C992420A5AB0}" type="datetime">
              <a:rPr b="0" lang="pl-PL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4D0E-B5A2-426E-B7FE-B74BFB9E9837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80720" y="426960"/>
            <a:ext cx="7161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D78E-CE13-431A-AD04-56D78F38C9B2}" type="datetime">
              <a:rPr b="0" lang="pl-PL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3193-F6D9-44FB-ACDF-4EDDA2156CA2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426960"/>
            <a:ext cx="7161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ffcc"/>
                </a:solidFill>
                <a:latin typeface="Arial Narrow"/>
              </a:rPr>
              <a:t>Algorytmy w nauczaniu Matematyki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280" y="2349360"/>
            <a:ext cx="784548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Andrzej Mazur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Zespół Szkół Ogólnokształcąc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w Kluczbor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6012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1D49-FDE1-464B-A2A8-73B711D420D4}" type="slidenum">
              <a:t>1</a:t>
            </a:fld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6351-3441-4A5B-A7A0-6AD4A7D733F0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276720" y="914400"/>
          <a:ext cx="4574880" cy="50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914400"/>
                    <a:ext cx="45748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0" y="0"/>
            <a:ext cx="5638680" cy="86256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wyższy algorytm w języku Turbo Pas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09800" y="1981080"/>
            <a:ext cx="6359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Spróbujmy sporządzić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algorytm rozwiązywan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nierówności kwadratowych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129-844E-490F-BE0C-804D8538909B}" type="slidenum">
              <a:t>11</a:t>
            </a:fld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6783-994E-4DBD-A06B-552014108F2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457200"/>
            <a:ext cx="3251160" cy="343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Podaj współczynniki a,b,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17440" y="57240"/>
            <a:ext cx="65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Algorytm rozwiązywania nierówności kwadratowy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2324160"/>
            <a:ext cx="1779480" cy="285840"/>
          </a:xfrm>
          <a:prstGeom prst="flowChartAlternateProcess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57800" y="2838600"/>
            <a:ext cx="1779480" cy="285480"/>
          </a:xfrm>
          <a:prstGeom prst="flowChartAlternateProcess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59320" y="232416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D:= sqrt( D 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28160" y="2846520"/>
            <a:ext cx="13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X1:=(-b-D)/2*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3352680"/>
            <a:ext cx="1779480" cy="285840"/>
          </a:xfrm>
          <a:prstGeom prst="flowChartAlternateProcess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30240" y="3360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X2:=(-b+D)/2*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990720"/>
            <a:ext cx="1726920" cy="285480"/>
          </a:xfrm>
          <a:prstGeom prst="flowChartAlternateProcess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D:= b*b - 4*a*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0200" y="2209680"/>
            <a:ext cx="1625760" cy="2858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a &gt; 0 i D &gt;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200" y="2724120"/>
            <a:ext cx="1625760" cy="2858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a &gt; 0 i D =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13080" y="249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94360" y="2541600"/>
            <a:ext cx="39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3238560"/>
            <a:ext cx="1625760" cy="2858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a &gt; 0 i D &lt;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3753000"/>
            <a:ext cx="1625760" cy="285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a &lt; 0 i D &gt;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13080" y="35244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94360" y="3570120"/>
            <a:ext cx="39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15240" y="3067200"/>
            <a:ext cx="39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13080" y="300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419720"/>
            <a:ext cx="345456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artości dodatnie w przedziała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(-</a:t>
            </a:r>
            <a:r>
              <a:rPr b="0" lang="pl-PL" sz="1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;x1)</a:t>
            </a:r>
            <a:r>
              <a:rPr b="0" lang="pl-PL" sz="1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(x2; </a:t>
            </a:r>
            <a:r>
              <a:rPr b="0" lang="pl-PL" sz="1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73" idx="3"/>
            <a:endCxn id="166" idx="1"/>
          </p:cNvCxnSpPr>
          <p:nvPr/>
        </p:nvCxnSpPr>
        <p:spPr>
          <a:xfrm>
            <a:off x="3225960" y="2352600"/>
            <a:ext cx="2032200" cy="115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4" idx="3"/>
            <a:endCxn id="166" idx="1"/>
          </p:cNvCxnSpPr>
          <p:nvPr/>
        </p:nvCxnSpPr>
        <p:spPr>
          <a:xfrm flipV="1">
            <a:off x="3225960" y="2466360"/>
            <a:ext cx="2032200" cy="400680"/>
          </a:xfrm>
          <a:prstGeom prst="bentConnector3">
            <a:avLst>
              <a:gd name="adj1" fmla="val 371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8" idx="3"/>
            <a:endCxn id="166" idx="1"/>
          </p:cNvCxnSpPr>
          <p:nvPr/>
        </p:nvCxnSpPr>
        <p:spPr>
          <a:xfrm flipV="1">
            <a:off x="3225960" y="2466720"/>
            <a:ext cx="2032200" cy="1429200"/>
          </a:xfrm>
          <a:prstGeom prst="bentConnector3">
            <a:avLst>
              <a:gd name="adj1" fmla="val 372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5257800" y="3886200"/>
            <a:ext cx="1727280" cy="228600"/>
          </a:xfrm>
          <a:prstGeom prst="flowChartDecision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a &gt;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67" idx="2"/>
            <a:endCxn id="170" idx="0"/>
          </p:cNvCxnSpPr>
          <p:nvPr/>
        </p:nvCxnSpPr>
        <p:spPr>
          <a:xfrm>
            <a:off x="614808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6172200" y="2610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7" idx="2"/>
            <a:endCxn id="183" idx="0"/>
          </p:cNvCxnSpPr>
          <p:nvPr/>
        </p:nvCxnSpPr>
        <p:spPr>
          <a:xfrm flipH="1" rot="16200000">
            <a:off x="6361560" y="3873240"/>
            <a:ext cx="305640" cy="788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6255360" y="402732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1480" y="5105520"/>
            <a:ext cx="345456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artości dodatnie w przedzi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(x1;x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5772240"/>
            <a:ext cx="3454560" cy="2858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szystkie wartości sa dodatni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87" idx="1"/>
            <a:endCxn id="192" idx="1"/>
          </p:cNvCxnSpPr>
          <p:nvPr/>
        </p:nvCxnSpPr>
        <p:spPr>
          <a:xfrm flipV="1" rot="10800000">
            <a:off x="5181480" y="4000320"/>
            <a:ext cx="76680" cy="1334160"/>
          </a:xfrm>
          <a:prstGeom prst="bentConnector3">
            <a:avLst>
              <a:gd name="adj1" fmla="val 4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4752000" y="3753000"/>
            <a:ext cx="39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1360" y="5772240"/>
            <a:ext cx="3454200" cy="2858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Brak wartości dodatnich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77" idx="3"/>
            <a:endCxn id="193" idx="1"/>
          </p:cNvCxnSpPr>
          <p:nvPr/>
        </p:nvCxnSpPr>
        <p:spPr>
          <a:xfrm>
            <a:off x="3225960" y="3381480"/>
            <a:ext cx="1956240" cy="2534400"/>
          </a:xfrm>
          <a:prstGeom prst="bentConnector3">
            <a:avLst>
              <a:gd name="adj1" fmla="val 646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3581280" y="6324480"/>
            <a:ext cx="1828800" cy="2858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KONIE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6" idx="2"/>
            <a:endCxn id="198" idx="1"/>
          </p:cNvCxnSpPr>
          <p:nvPr/>
        </p:nvCxnSpPr>
        <p:spPr>
          <a:xfrm flipH="1" rot="16200000">
            <a:off x="2804040" y="5690880"/>
            <a:ext cx="41004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83" idx="3"/>
            <a:endCxn id="198" idx="3"/>
          </p:cNvCxnSpPr>
          <p:nvPr/>
        </p:nvCxnSpPr>
        <p:spPr>
          <a:xfrm flipH="1">
            <a:off x="5409360" y="4647960"/>
            <a:ext cx="3226680" cy="1819800"/>
          </a:xfrm>
          <a:prstGeom prst="bentConnector3">
            <a:avLst>
              <a:gd name="adj1" fmla="val -7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8636040" y="54291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636040" y="5886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171" idx="2"/>
            <a:endCxn id="187" idx="0"/>
          </p:cNvCxnSpPr>
          <p:nvPr/>
        </p:nvCxnSpPr>
        <p:spPr>
          <a:xfrm flipH="1" rot="16200000">
            <a:off x="6003720" y="3769200"/>
            <a:ext cx="221400" cy="13320"/>
          </a:xfrm>
          <a:prstGeom prst="curvedConnector5">
            <a:avLst>
              <a:gd name="adj1" fmla="val 49511"/>
              <a:gd name="adj2" fmla="val 50000"/>
              <a:gd name="adj3" fmla="val 495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64" idx="2"/>
            <a:endCxn id="172" idx="0"/>
          </p:cNvCxnSpPr>
          <p:nvPr/>
        </p:nvCxnSpPr>
        <p:spPr>
          <a:xfrm flipV="1" rot="10800000">
            <a:off x="4368240" y="799920"/>
            <a:ext cx="1080" cy="191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3205800" y="213372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5800" y="263700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5800" y="314172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5800" y="371628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178" idx="2"/>
            <a:endCxn id="196" idx="0"/>
          </p:cNvCxnSpPr>
          <p:nvPr/>
        </p:nvCxnSpPr>
        <p:spPr>
          <a:xfrm>
            <a:off x="2413080" y="4038480"/>
            <a:ext cx="25920" cy="173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2413440" y="4292640"/>
            <a:ext cx="39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172" idx="2"/>
            <a:endCxn id="173" idx="0"/>
          </p:cNvCxnSpPr>
          <p:nvPr/>
        </p:nvCxnSpPr>
        <p:spPr>
          <a:xfrm rot="5400000">
            <a:off x="2923560" y="764640"/>
            <a:ext cx="934200" cy="1956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ffcc"/>
                </a:solidFill>
                <a:latin typeface="Arial Narrow"/>
              </a:rPr>
              <a:t>Jak rozwiązujemy równania wyższych stopni 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652788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zypadek1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ielomian jest  rozłożony na czynnik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(x-a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)(x-a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)…(x-a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)=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ozwiązaniami są liczby: a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, a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, …a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B4C-899A-4635-AF73-0921C2B75123}" type="slidenum">
              <a:t>13</a:t>
            </a:fld>
          </a:p>
        </p:txBody>
      </p:sp>
    </p:spTree>
  </p:cSld>
  <p:transition spd="slow">
    <p:split dir="out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87280" y="907920"/>
            <a:ext cx="609624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zypadek 2.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ielomian jest postac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pl-PL" sz="2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+a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n-1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pl-PL" sz="2800" spc="-1" strike="noStrike" baseline="30000">
                <a:solidFill>
                  <a:srgbClr val="ffffff"/>
                </a:solidFill>
                <a:latin typeface="Arial"/>
              </a:rPr>
              <a:t>n-1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+…a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pl-PL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+a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x+a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=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Jednym ze sposobów rozwiązania równania jest zastosowani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Tw. Bezout’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Schemat postępowania może, być nastepując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9F4F-81FF-4F45-A7F8-F3C5FF353E89}" type="slidenum">
              <a:t>14</a:t>
            </a:fld>
          </a:p>
        </p:txBody>
      </p:sp>
    </p:spTree>
  </p:cSld>
  <p:transition spd="slow">
    <p:split dir="out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7702-88F5-4BF2-8877-24BFB1552C5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8280" y="3048120"/>
            <a:ext cx="2895840" cy="990360"/>
          </a:xfrm>
          <a:prstGeom prst="flowChartDecision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Czy można rozłożyć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W(x)  na czynniki 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2666880" y="4648320"/>
            <a:ext cx="5029200" cy="5331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Rozwiązaniami są pierwiastki poszczególnych czynnikó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91320" y="3352680"/>
            <a:ext cx="312408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Znajdź pierwiastek wielomianu: 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2209680"/>
            <a:ext cx="312408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Podziel W(x) przez dwumian (x-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40000" y="1268280"/>
            <a:ext cx="571500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Zapisz W(x) jako iloczyn czynników liniowych i wyniku dziele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2205000"/>
            <a:ext cx="144756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Począte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21" idx="2"/>
            <a:endCxn id="216" idx="1"/>
          </p:cNvCxnSpPr>
          <p:nvPr/>
        </p:nvCxnSpPr>
        <p:spPr>
          <a:xfrm flipH="1" rot="16200000">
            <a:off x="1301040" y="2407320"/>
            <a:ext cx="882000" cy="139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6" idx="3"/>
            <a:endCxn id="218" idx="1"/>
          </p:cNvCxnSpPr>
          <p:nvPr/>
        </p:nvCxnSpPr>
        <p:spPr>
          <a:xfrm>
            <a:off x="5334120" y="3543120"/>
            <a:ext cx="457920" cy="38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8" idx="0"/>
            <a:endCxn id="219" idx="2"/>
          </p:cNvCxnSpPr>
          <p:nvPr/>
        </p:nvCxnSpPr>
        <p:spPr>
          <a:xfrm flipV="1">
            <a:off x="7353000" y="266616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9" idx="0"/>
            <a:endCxn id="220" idx="0"/>
          </p:cNvCxnSpPr>
          <p:nvPr/>
        </p:nvCxnSpPr>
        <p:spPr>
          <a:xfrm flipV="1" rot="16200000">
            <a:off x="5803920" y="660240"/>
            <a:ext cx="942120" cy="2156400"/>
          </a:xfrm>
          <a:prstGeom prst="bentConnector5">
            <a:avLst>
              <a:gd name="adj1" fmla="val 25611"/>
              <a:gd name="adj2" fmla="val -43145"/>
              <a:gd name="adj3" fmla="val 1242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4427640" y="5950080"/>
            <a:ext cx="144756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Konie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16" idx="2"/>
            <a:endCxn id="217" idx="0"/>
          </p:cNvCxnSpPr>
          <p:nvPr/>
        </p:nvCxnSpPr>
        <p:spPr>
          <a:xfrm flipH="1" rot="16200000">
            <a:off x="4228920" y="3695400"/>
            <a:ext cx="610560" cy="12960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7" idx="2"/>
            <a:endCxn id="226" idx="0"/>
          </p:cNvCxnSpPr>
          <p:nvPr/>
        </p:nvCxnSpPr>
        <p:spPr>
          <a:xfrm rot="5400000">
            <a:off x="4781520" y="5550480"/>
            <a:ext cx="769320" cy="30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5167440" y="32367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4038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20" idx="2"/>
            <a:endCxn id="216" idx="0"/>
          </p:cNvCxnSpPr>
          <p:nvPr/>
        </p:nvCxnSpPr>
        <p:spPr>
          <a:xfrm rot="5400000">
            <a:off x="3880080" y="1731240"/>
            <a:ext cx="1323360" cy="131148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slow">
    <p:split dir="out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986120" y="1981080"/>
            <a:ext cx="5568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Spróbujmy wykona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algorytm rozwiązywan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nierówności stopnia 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C76-E8F0-45EF-BF9E-C168D15F6C4E}" type="slidenum">
              <a:t>16</a:t>
            </a:fld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660120" y="2895480"/>
            <a:ext cx="21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KONIE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FEF-45FD-43D3-AC0B-4249E9606842}" type="slidenum">
              <a:t>17</a:t>
            </a:fld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520" y="609120"/>
            <a:ext cx="203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ffcc"/>
                </a:solidFill>
                <a:latin typeface="Arial Narrow"/>
              </a:rPr>
              <a:t>Wstęp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447040" cy="237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Celem zajęć jest przedstawienie w postaci algorytmu, sposobów rozwiązywania równań i nierówności stopnia 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677520" y="6705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6B9-43A6-4C35-99C9-D4E27512DD29}" type="slidenum">
              <a:t>2</a:t>
            </a:fld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92000" y="620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ffcc"/>
                </a:solidFill>
                <a:latin typeface="Arial Narrow"/>
              </a:rPr>
              <a:t>Równanie liniow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47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Jak rozwiązać równanie postac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a x + b = 0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Jakie są kolejne czynności przy rozwiązywaniu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906120" y="59436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491-A86B-4D1F-990D-CAD884EF6F42}" type="slidenum">
              <a:t>3</a:t>
            </a:fld>
          </a:p>
        </p:txBody>
      </p:sp>
    </p:spTree>
  </p:cSld>
  <p:transition spd="slow"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98100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d obu stron równania odejmujemy b i otrzymuje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a x =  – 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Jeżeli a = 0 mamy równ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0 =  – b ,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edy jest ono prawdziwe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Oczywiście jeżeli b = 0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D45F-E13D-44A2-88AE-9ED62F7D06CB}" type="slidenum">
              <a:t>4</a:t>
            </a:fld>
          </a:p>
        </p:txBody>
      </p:sp>
    </p:spTree>
  </p:cSld>
  <p:transition spd="slow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5280" y="907920"/>
            <a:ext cx="87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Równanie  0 = 0 jest prawdziwe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niezależnie od 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Rozwiązaniem równania jest ...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...zbiór wszystkich liczb rzeczywisty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Jeżeli w równani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0 =  –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1" lang="pl-PL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0, otrzymujemy równanie ...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...fałszyw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Równanie liniowe nie posiada rozwiązań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E2E7-C112-484A-A26F-26C5C7295B1C}" type="slidenum">
              <a:t>5</a:t>
            </a:fld>
          </a:p>
        </p:txBody>
      </p:sp>
    </p:spTree>
  </p:cSld>
  <p:transition spd="slow">
    <p:split dir="out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95280" y="836640"/>
            <a:ext cx="7913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zypadek 2.   Jeżeli a </a:t>
            </a:r>
            <a:r>
              <a:rPr b="0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0 obie strony równ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a x = -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ożemy podzielić przez a i otrzymujemy rozwiąz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x = (-b)/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owyższe kroki można zapisać w  post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następującego schematu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A375-6BFB-439A-8AA1-F587BC49F938}" type="slidenum">
              <a:t>6</a:t>
            </a:fld>
          </a:p>
        </p:txBody>
      </p:sp>
    </p:spTree>
  </p:cSld>
  <p:transition spd="slow">
    <p:split dir="out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F2F7-7711-423E-8B91-3362A1E34DE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762120"/>
            <a:ext cx="2514600" cy="5331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Podaj liczby a, 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1828800"/>
            <a:ext cx="2362320" cy="838080"/>
          </a:xfrm>
          <a:prstGeom prst="flowChartDecision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Czy a = 0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895480"/>
            <a:ext cx="2362320" cy="838440"/>
          </a:xfrm>
          <a:prstGeom prst="flowChartDecision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Czy b = 0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2743200"/>
            <a:ext cx="1676160" cy="685800"/>
          </a:xfrm>
          <a:prstGeom prst="flowChartAlternateProcess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x: = -b/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4648320"/>
            <a:ext cx="2590920" cy="5331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Rozwiązaniem jest liczba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4648320"/>
            <a:ext cx="2819520" cy="5331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648320"/>
            <a:ext cx="2362320" cy="5331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Rozwiązaniem jest </a:t>
            </a:r>
            <a:r>
              <a:rPr b="1" i="1" lang="pl-P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5867280"/>
            <a:ext cx="2514600" cy="533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Koniec zada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472428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Równanie nie ma rozwiąza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99" idx="3"/>
            <a:endCxn id="101" idx="1"/>
          </p:cNvCxnSpPr>
          <p:nvPr/>
        </p:nvCxnSpPr>
        <p:spPr>
          <a:xfrm>
            <a:off x="5486400" y="2247480"/>
            <a:ext cx="991440" cy="83916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0" idx="3"/>
            <a:endCxn id="103" idx="0"/>
          </p:cNvCxnSpPr>
          <p:nvPr/>
        </p:nvCxnSpPr>
        <p:spPr>
          <a:xfrm>
            <a:off x="3428640" y="3314880"/>
            <a:ext cx="118188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0" idx="2"/>
            <a:endCxn id="104" idx="0"/>
          </p:cNvCxnSpPr>
          <p:nvPr/>
        </p:nvCxnSpPr>
        <p:spPr>
          <a:xfrm rot="5400000">
            <a:off x="1561320" y="3962520"/>
            <a:ext cx="915120" cy="45792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4" idx="2"/>
            <a:endCxn id="105" idx="0"/>
          </p:cNvCxnSpPr>
          <p:nvPr/>
        </p:nvCxnSpPr>
        <p:spPr>
          <a:xfrm flipH="1" rot="16200000">
            <a:off x="3047760" y="3923640"/>
            <a:ext cx="686520" cy="3201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3" idx="2"/>
            <a:endCxn id="105" idx="0"/>
          </p:cNvCxnSpPr>
          <p:nvPr/>
        </p:nvCxnSpPr>
        <p:spPr>
          <a:xfrm flipH="1" rot="16200000">
            <a:off x="4457520" y="5333400"/>
            <a:ext cx="68652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2" idx="2"/>
            <a:endCxn id="105" idx="0"/>
          </p:cNvCxnSpPr>
          <p:nvPr/>
        </p:nvCxnSpPr>
        <p:spPr>
          <a:xfrm rot="5400000">
            <a:off x="5885640" y="4285800"/>
            <a:ext cx="686520" cy="247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8" idx="2"/>
            <a:endCxn id="99" idx="0"/>
          </p:cNvCxnSpPr>
          <p:nvPr/>
        </p:nvCxnSpPr>
        <p:spPr>
          <a:xfrm>
            <a:off x="4304880" y="12952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99" idx="1"/>
            <a:endCxn id="100" idx="0"/>
          </p:cNvCxnSpPr>
          <p:nvPr/>
        </p:nvCxnSpPr>
        <p:spPr>
          <a:xfrm flipV="1" rot="10800000">
            <a:off x="2247120" y="2246760"/>
            <a:ext cx="87696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5488200" y="19051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297180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1866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972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1" idx="2"/>
            <a:endCxn id="102" idx="0"/>
          </p:cNvCxnSpPr>
          <p:nvPr/>
        </p:nvCxnSpPr>
        <p:spPr>
          <a:xfrm flipH="1" rot="16200000">
            <a:off x="6780600" y="3962160"/>
            <a:ext cx="122004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cc"/>
                </a:solidFill>
                <a:latin typeface="Arial Narrow"/>
              </a:rPr>
              <a:t>Jak</a:t>
            </a:r>
            <a:r>
              <a:rPr b="1" lang="pl-PL" sz="5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pl-PL" sz="4400" spc="-1" strike="noStrike">
                <a:solidFill>
                  <a:srgbClr val="ffffcc"/>
                </a:solidFill>
                <a:latin typeface="Arial Narrow"/>
              </a:rPr>
              <a:t>rozwiązać równanie kwadratowe</a:t>
            </a:r>
            <a:r>
              <a:rPr b="1" lang="pl-PL" sz="5400" spc="-1" strike="noStrike">
                <a:solidFill>
                  <a:srgbClr val="ffffcc"/>
                </a:solidFill>
                <a:latin typeface="Arial Narrow"/>
              </a:rPr>
              <a:t>?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6448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Dane jest równan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ax</a:t>
            </a:r>
            <a:r>
              <a:rPr b="0" lang="pl-PL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+bx+c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czywiście współczynnik a musi być różny od ze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Jedną z metod rozwiązania równania jest obliczenie wyróżnika i podstawienie do odpowiednich wzoró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Kolejność wykonywanych czynności przedstawia schem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9A6D-8A64-494C-A2EA-1F2454E59406}" type="slidenum">
              <a:t>8</a:t>
            </a:fld>
          </a:p>
        </p:txBody>
      </p:sp>
    </p:spTree>
  </p:cSld>
  <p:transition spd="slow">
    <p:split dir="out" orient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4042-3255-4D1E-B211-03F2C9B9F422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380880"/>
            <a:ext cx="838440" cy="457200"/>
          </a:xfrm>
          <a:prstGeom prst="flowChartDecision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ffffff"/>
                </a:solidFill>
                <a:latin typeface="Times New Roman"/>
              </a:rPr>
              <a:t>Czy a=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53352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68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80880"/>
            <a:ext cx="83844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Podaj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380880"/>
            <a:ext cx="83844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Podaj b i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228600"/>
            <a:ext cx="1143000" cy="609480"/>
          </a:xfrm>
          <a:prstGeom prst="flowChartAlternateProcess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38088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:= b*b- 4*a*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905120"/>
            <a:ext cx="838080" cy="533160"/>
          </a:xfrm>
          <a:prstGeom prst="flowChartDecision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ffffff"/>
                </a:solidFill>
                <a:latin typeface="Times New Roman"/>
              </a:rPr>
              <a:t>Czy D &lt; 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2637000"/>
            <a:ext cx="44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1905120"/>
            <a:ext cx="838080" cy="533160"/>
          </a:xfrm>
          <a:prstGeom prst="flowChartDecision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ffffff"/>
                </a:solidFill>
                <a:latin typeface="Times New Roman"/>
              </a:rPr>
              <a:t>Czy D = 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2362320"/>
            <a:ext cx="44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0160" y="1916280"/>
            <a:ext cx="4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3640" y="1828800"/>
            <a:ext cx="4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19520"/>
            <a:ext cx="1752480" cy="685800"/>
          </a:xfrm>
          <a:prstGeom prst="flowChartAlternateProcess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1:= (- b - sqrt(D))/2*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2:= (- b + sqrt(D))/2*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2819520"/>
            <a:ext cx="1219320" cy="685800"/>
          </a:xfrm>
          <a:prstGeom prst="flowChartAlternateProcess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0:= - b / 2*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648320"/>
            <a:ext cx="2590920" cy="3808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ozwiązaniem równania jest liczba x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4648320"/>
            <a:ext cx="2743200" cy="3808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ozwiązaniem równania są liczby x1 i x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5638680"/>
            <a:ext cx="2590920" cy="3812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KONIE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23" idx="2"/>
            <a:endCxn id="126" idx="2"/>
          </p:cNvCxnSpPr>
          <p:nvPr/>
        </p:nvCxnSpPr>
        <p:spPr>
          <a:xfrm rot="5400000">
            <a:off x="3313440" y="153000"/>
            <a:ext cx="2520" cy="1372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23" idx="3"/>
            <a:endCxn id="127" idx="1"/>
          </p:cNvCxnSpPr>
          <p:nvPr/>
        </p:nvCxnSpPr>
        <p:spPr>
          <a:xfrm>
            <a:off x="4419360" y="609120"/>
            <a:ext cx="533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27" idx="3"/>
            <a:endCxn id="129" idx="1"/>
          </p:cNvCxnSpPr>
          <p:nvPr/>
        </p:nvCxnSpPr>
        <p:spPr>
          <a:xfrm flipV="1">
            <a:off x="5791320" y="518400"/>
            <a:ext cx="762480" cy="9108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8" idx="2"/>
            <a:endCxn id="130" idx="0"/>
          </p:cNvCxnSpPr>
          <p:nvPr/>
        </p:nvCxnSpPr>
        <p:spPr>
          <a:xfrm rot="5400000">
            <a:off x="3732840" y="-1486080"/>
            <a:ext cx="1067760" cy="57157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380880" y="4648320"/>
            <a:ext cx="1981440" cy="3808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rak rozwiązań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30" idx="2"/>
            <a:endCxn id="145" idx="0"/>
          </p:cNvCxnSpPr>
          <p:nvPr/>
        </p:nvCxnSpPr>
        <p:spPr>
          <a:xfrm rot="5400000">
            <a:off x="285120" y="3524040"/>
            <a:ext cx="2210760" cy="3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2" idx="2"/>
            <a:endCxn id="137" idx="0"/>
          </p:cNvCxnSpPr>
          <p:nvPr/>
        </p:nvCxnSpPr>
        <p:spPr>
          <a:xfrm rot="5400000">
            <a:off x="4095000" y="2609640"/>
            <a:ext cx="381960" cy="3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0" idx="3"/>
            <a:endCxn id="132" idx="1"/>
          </p:cNvCxnSpPr>
          <p:nvPr/>
        </p:nvCxnSpPr>
        <p:spPr>
          <a:xfrm>
            <a:off x="1828440" y="2171520"/>
            <a:ext cx="20577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2" idx="3"/>
            <a:endCxn id="136" idx="0"/>
          </p:cNvCxnSpPr>
          <p:nvPr/>
        </p:nvCxnSpPr>
        <p:spPr>
          <a:xfrm>
            <a:off x="4724280" y="2171520"/>
            <a:ext cx="240120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7" idx="2"/>
            <a:endCxn id="138" idx="0"/>
          </p:cNvCxnSpPr>
          <p:nvPr/>
        </p:nvCxnSpPr>
        <p:spPr>
          <a:xfrm flipV="1" rot="10800000">
            <a:off x="4266360" y="3504960"/>
            <a:ext cx="108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6" idx="2"/>
            <a:endCxn id="139" idx="0"/>
          </p:cNvCxnSpPr>
          <p:nvPr/>
        </p:nvCxnSpPr>
        <p:spPr>
          <a:xfrm flipH="1" rot="16200000">
            <a:off x="6572160" y="4057200"/>
            <a:ext cx="1143720" cy="3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5" idx="2"/>
            <a:endCxn id="140" idx="0"/>
          </p:cNvCxnSpPr>
          <p:nvPr/>
        </p:nvCxnSpPr>
        <p:spPr>
          <a:xfrm flipH="1" rot="16200000">
            <a:off x="2513520" y="3885840"/>
            <a:ext cx="610200" cy="28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8" idx="2"/>
            <a:endCxn id="140" idx="0"/>
          </p:cNvCxnSpPr>
          <p:nvPr/>
        </p:nvCxnSpPr>
        <p:spPr>
          <a:xfrm flipV="1" rot="10800000">
            <a:off x="4266360" y="502884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9" idx="2"/>
            <a:endCxn id="140" idx="0"/>
          </p:cNvCxnSpPr>
          <p:nvPr/>
        </p:nvCxnSpPr>
        <p:spPr>
          <a:xfrm rot="5400000">
            <a:off x="5409720" y="3885840"/>
            <a:ext cx="610200" cy="2896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26" idx="3"/>
            <a:endCxn id="123" idx="1"/>
          </p:cNvCxnSpPr>
          <p:nvPr/>
        </p:nvCxnSpPr>
        <p:spPr>
          <a:xfrm>
            <a:off x="3047760" y="609120"/>
            <a:ext cx="533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4269240" y="380880"/>
            <a:ext cx="39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3920" y="82224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zurek</cp:lastModifiedBy>
  <dcterms:modified xsi:type="dcterms:W3CDTF">2004-06-28T14:45:29Z</dcterms:modified>
  <cp:revision>18</cp:revision>
  <dc:subject/>
  <dc:title>Prezentacja programu PowerPoint</dc:title>
</cp:coreProperties>
</file>